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978DF95-C586-4A90-8A82-3EB299436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040" y="4416480"/>
            <a:ext cx="5334120" cy="3713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5AEE-EC53-4FCA-BEE3-0847FE69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6BD-C22E-409E-965D-BA824D60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149-12CA-4402-810F-44D8FB51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2F7-7406-4221-AC23-E86AB67B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674F-A62D-4DC4-A59A-498FBB18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3310-0BF6-480C-A90C-0A4093A9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5400-9D6B-4B7F-B070-85161304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C34D-A91D-4FC0-819D-7F769DB4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0545-1BFE-4D8C-9E4E-18392F59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2A5E-0A23-47A6-A5A6-E8443945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D77E-2351-4EC7-BB4B-07DE31CA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899B-7A7C-42E4-8080-CCD2BE30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880F-26A9-481D-878C-7C7FBD4B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16E6-8B0B-4D0B-AA74-F9012511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F5D5-C9ED-4E8D-AECE-4D81DE93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1B0C-75A0-4299-AD22-7D333CEC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3551-A3B7-4F21-B1B2-FE7B80A1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45F-992B-402F-9C4D-170CEA49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10D-37F0-412B-96A5-F717CA43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AFAE-E628-42F7-BB6C-CD060687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735C-AD67-4455-A709-D03E0B11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A00-AB36-444B-A3DB-59C1FD46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B73-4704-4D9C-AE66-607FF49B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4639-E80B-40C7-A5E9-1BA9238F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digitalpreservation.g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2063-8CE1-4C0B-87ED-44E51E041E29}" type="slidenum">
              <a:rPr b="1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0A41-FB5A-454E-B687-E15F33410B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2819520" y="1066320"/>
            <a:ext cx="54100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1611360" y="3328920"/>
            <a:ext cx="54658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240" tIns="66600" bIns="126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2225520"/>
            <a:ext cx="1371600" cy="1355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680" y="1447560"/>
            <a:ext cx="65534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Framing a National Preservation and Access Strategy for Geospatial Data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br>
              <a:rPr sz="3200"/>
            </a:br>
            <a:br>
              <a:rPr sz="48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0" y="4114440"/>
            <a:ext cx="6477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IP Federation Meet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/5/201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illiam G. LeFurgy, wlef@loc.gov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1523880"/>
            <a:ext cx="5486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600200"/>
            <a:ext cx="8305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tional Digital Information Infrastructure and Preservation Program established in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gress saw valuable digital content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ibrary of Congress directed to lead a national program and work with all stakehold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orking with federal agencies, universities, commercial 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7E3-EC10-4CC0-B51D-357C0CBA696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ree Parts of NDIIPP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Build a community of practice to collaborate on solutions, share inform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ponsor and develop tools, services, infrastructure to provide long-term access to significant digital inform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ork with partners to preserve and provide access to inform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3A5A-8152-4C2E-A58F-EF9B60F977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Drilling Down into Domains 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NDIIPP has worked with a variety of content types; new focus on specific area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Geospatial data is one area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Build on projects with UCSB/Stanford National Geospatial Data Archive and North Carolina State U./Central GIS Servic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696-2D4B-4A6C-83CF-D9610E3532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November 2009 Meeting at LC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vited 40 experts from different organizations to discuss developing a national strateg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rainstormed on variety of topic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art of an ongoing proc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886200"/>
            <a:ext cx="83059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rebuchet MS"/>
              </a:rPr>
              <a:t>www.digitalpreservation.gov/news/events/other_meetings/geosummit09/index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17F0-9CFC-4B4C-B763-F74FB5FE1E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Meeting Goal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nderstand who the stewards ar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Learn about current roles/responsibiliti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dentify the types of geo data are preservation prioriti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dentify gaps in the geo life cycl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Get suggestions for next step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3BB-4FBC-48A8-98CD-93D9D24706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What Happens Next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ssue meeting repor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Build a broad-based information resource on digitalpreservation.gov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stablish follow-on activities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orkshop on data apprais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orking group on model licensing guidelin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d more…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5EC0-5CFD-43E2-B90F-200651ACA1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6172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9072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gitalpreservation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A26-0873-4768-905F-8293F76340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22:44:37Z</dcterms:created>
  <dc:creator>loc</dc:creator>
  <dc:description/>
  <dc:language>en-US</dc:language>
  <cp:lastModifiedBy>wlef</cp:lastModifiedBy>
  <cp:lastPrinted>2001-11-28T21:10:42Z</cp:lastPrinted>
  <dcterms:modified xsi:type="dcterms:W3CDTF">2010-01-05T17:29:30Z</dcterms:modified>
  <cp:revision>754</cp:revision>
  <dc:subject/>
  <dc:title>ARL</dc:title>
</cp:coreProperties>
</file>